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C4F-77DD-4F53-9206-DA5A9003393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FB6-6DC8-4AF2-A53A-6BFB4BEDD77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F33-0191-460D-919B-E04E8D26139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650D-37D3-4028-A53C-6BD19A5405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B87-6ECA-4F79-B1DA-B20404A32A5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70B-1662-4B67-855F-33744611B88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89CA-295A-499D-BDC9-5AAF6C19A48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A91A-1209-47B5-BD07-8EA1FFFB94F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09C-5DC0-4EAF-92C5-72CFF3AC6AB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0A19-D754-42C5-9EBD-D34172B509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6CC5-0775-4FB2-9F22-BBBE12674FC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503-A50C-4220-ACFF-CC4DEA0DCE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663C-99FD-49CC-9543-BA7FAC75022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F1E-1224-499E-9160-4BB41D7FDB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13F-67B1-4686-924C-CF1E7EC33E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022-7C45-4C7C-A7AC-836F9029B7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8590-EC1C-4AAC-B4EB-5966A5429B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0E15-0C55-41AA-86BB-EF59A75C60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23C5-CA60-46CC-841B-1E6210300B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33F1-3BC4-468D-8DEB-6C2073091C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472B-84A8-4B22-A5BF-A0C273325AB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586A-D237-498A-B632-33E7865C08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A569-75FE-44B2-B48D-52054892988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07CB-0A16-425A-8F44-DCB868B6735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3F1D-6923-45E1-9674-4804F3FCC83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10C1-8FE9-4C08-B6B5-04E35F5E2E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A6DE-53A5-4B01-AF45-F2843F97B3B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B1C0-4FF3-4261-A59A-93404985121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B7B9-FD41-49CD-8E6F-BA83CE068D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4F8-F241-4ADF-A1A4-20FDE9BE4663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82160" y="76320"/>
            <a:ext cx="28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Primer on Data Management:  Plan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24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Primer on Data Management 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571320" y="5016240"/>
            <a:ext cx="585468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6578280" y="5016240"/>
            <a:ext cx="585468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Meteorological Societ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ew Orlean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January 22, 2012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85320"/>
            <a:ext cx="3411720" cy="8125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6" descr=""/>
          <p:cNvPicPr/>
          <p:nvPr/>
        </p:nvPicPr>
        <p:blipFill>
          <a:blip r:embed="rId4"/>
          <a:stretch/>
        </p:blipFill>
        <p:spPr>
          <a:xfrm>
            <a:off x="7248600" y="7886880"/>
            <a:ext cx="1692360" cy="14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5D2-8DFD-4FF4-AAFA-0C500ED4CF9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1224" name="Group 4"/>
          <p:cNvGrpSpPr/>
          <p:nvPr/>
        </p:nvGrpSpPr>
        <p:grpSpPr>
          <a:xfrm>
            <a:off x="635040" y="2362320"/>
            <a:ext cx="12046680" cy="7175520"/>
            <a:chOff x="635040" y="2362320"/>
            <a:chExt cx="12046680" cy="7175520"/>
          </a:xfrm>
        </p:grpSpPr>
        <p:pic>
          <p:nvPicPr>
            <p:cNvPr id="1225" name="Picture 4" descr=""/>
            <p:cNvPicPr/>
            <p:nvPr/>
          </p:nvPicPr>
          <p:blipFill>
            <a:blip r:embed="rId1"/>
            <a:stretch/>
          </p:blipFill>
          <p:spPr>
            <a:xfrm>
              <a:off x="11074680" y="8077320"/>
              <a:ext cx="11872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2" descr="NASA4.jpg"/>
            <p:cNvPicPr/>
            <p:nvPr/>
          </p:nvPicPr>
          <p:blipFill>
            <a:blip r:embed="rId2"/>
            <a:stretch/>
          </p:blipFill>
          <p:spPr>
            <a:xfrm>
              <a:off x="2158920" y="8229960"/>
              <a:ext cx="12412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9" descr="USGS-Trans.tif"/>
            <p:cNvPicPr/>
            <p:nvPr/>
          </p:nvPicPr>
          <p:blipFill>
            <a:blip r:embed="rId3"/>
            <a:stretch/>
          </p:blipFill>
          <p:spPr>
            <a:xfrm>
              <a:off x="2921040" y="7239240"/>
              <a:ext cx="1828800" cy="674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28" name="Picture 10" descr=""/>
            <p:cNvPicPr/>
            <p:nvPr/>
          </p:nvPicPr>
          <p:blipFill>
            <a:blip r:embed="rId4"/>
            <a:stretch/>
          </p:blipFill>
          <p:spPr>
            <a:xfrm>
              <a:off x="8745840" y="5391360"/>
              <a:ext cx="2025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12" descr="DataONE_South America LOGO.tif"/>
            <p:cNvPicPr/>
            <p:nvPr/>
          </p:nvPicPr>
          <p:blipFill>
            <a:blip r:embed="rId5"/>
            <a:stretch/>
          </p:blipFill>
          <p:spPr>
            <a:xfrm>
              <a:off x="7340760" y="8356680"/>
              <a:ext cx="265572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6" descr=""/>
            <p:cNvPicPr/>
            <p:nvPr/>
          </p:nvPicPr>
          <p:blipFill>
            <a:blip r:embed="rId6"/>
            <a:stretch/>
          </p:blipFill>
          <p:spPr>
            <a:xfrm>
              <a:off x="635040" y="6858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Box 15"/>
            <p:cNvSpPr/>
            <p:nvPr/>
          </p:nvSpPr>
          <p:spPr>
            <a:xfrm>
              <a:off x="10132560" y="2362320"/>
              <a:ext cx="2549160" cy="825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Climatic </a:t>
              </a:r>
              <a:endParaRPr b="0" lang="en-US" sz="24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Center</a:t>
              </a:r>
              <a:endParaRPr b="0" lang="en-US" sz="2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1232" name="TextBox 16" descr=""/>
            <p:cNvPicPr/>
            <p:nvPr/>
          </p:nvPicPr>
          <p:blipFill>
            <a:blip r:embed="rId7"/>
            <a:stretch/>
          </p:blipFill>
          <p:spPr>
            <a:xfrm>
              <a:off x="9473400" y="6474240"/>
              <a:ext cx="29505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18" descr=""/>
            <p:cNvPicPr/>
            <p:nvPr/>
          </p:nvPicPr>
          <p:blipFill>
            <a:blip r:embed="rId8"/>
            <a:stretch/>
          </p:blipFill>
          <p:spPr>
            <a:xfrm>
              <a:off x="5435640" y="6629400"/>
              <a:ext cx="3009960" cy="95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4" name="Group 2"/>
            <p:cNvGrpSpPr/>
            <p:nvPr/>
          </p:nvGrpSpPr>
          <p:grpSpPr>
            <a:xfrm>
              <a:off x="9245880" y="3657600"/>
              <a:ext cx="3322800" cy="1138680"/>
              <a:chOff x="9245880" y="3657600"/>
              <a:chExt cx="3322800" cy="1138680"/>
            </a:xfrm>
          </p:grpSpPr>
          <p:pic>
            <p:nvPicPr>
              <p:cNvPr id="1235" name="TextBox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9245880" y="3657600"/>
                <a:ext cx="3281760" cy="11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Picture 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381040" y="3731040"/>
                <a:ext cx="1187640" cy="95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7" name="Picture 3" descr=""/>
            <p:cNvPicPr/>
            <p:nvPr/>
          </p:nvPicPr>
          <p:blipFill>
            <a:blip r:embed="rId11"/>
            <a:stretch/>
          </p:blipFill>
          <p:spPr>
            <a:xfrm>
              <a:off x="5054760" y="8074800"/>
              <a:ext cx="1478880" cy="146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9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0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42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3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45" name="TextBox 14"/>
          <p:cNvSpPr/>
          <p:nvPr/>
        </p:nvSpPr>
        <p:spPr>
          <a:xfrm>
            <a:off x="8026560" y="7924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36F-A65F-446E-8078-2A88905DEA79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, in mole fraction in water-vapor-free air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9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50" name="TextBox 5"/>
          <p:cNvSpPr/>
          <p:nvPr/>
        </p:nvSpPr>
        <p:spPr>
          <a:xfrm>
            <a:off x="787320" y="914400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1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5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B31-E549-4817-A2F8-6F203E0C7F3C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ard metadata (e.g., ISO 19115)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5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2E47-9AEC-4B3F-B4AD-9CB6E1257DDA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aggregated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606060"/>
                </a:solidFill>
                <a:uFillTx/>
                <a:latin typeface="Helvetica Neue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B9A-6C26-4CB1-817E-F650987B905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nal data product will be available for use by the research and policy communities in perpetuit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archive metadata database at CDIAC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product citation, including DOI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C22-EEA4-42D8-9BE3-6F361D0542B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65" name="Picture 2" descr=""/>
          <p:cNvPicPr/>
          <p:nvPr/>
        </p:nvPicPr>
        <p:blipFill>
          <a:blip r:embed="rId1"/>
          <a:stretch/>
        </p:blipFill>
        <p:spPr>
          <a:xfrm>
            <a:off x="2082960" y="2133720"/>
            <a:ext cx="8785080" cy="65865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66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73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74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F28-BFDC-40EB-89E4-96798817315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7" name="Rectangle 1"/>
          <p:cNvSpPr/>
          <p:nvPr/>
        </p:nvSpPr>
        <p:spPr>
          <a:xfrm>
            <a:off x="5872320" y="3809880"/>
            <a:ext cx="2057400" cy="1905120"/>
          </a:xfrm>
          <a:prstGeom prst="rect">
            <a:avLst/>
          </a:prstGeom>
          <a:noFill/>
          <a:ln w="25560">
            <a:solidFill>
              <a:srgbClr val="218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8" name="TextBox 2"/>
          <p:cNvSpPr/>
          <p:nvPr/>
        </p:nvSpPr>
        <p:spPr>
          <a:xfrm>
            <a:off x="3225960" y="8686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https://dmp.cdlib.org/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MP Tool Out-of-the-Box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360000" y="2287440"/>
            <a:ext cx="11704680" cy="281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06060"/>
                </a:solidFill>
                <a:latin typeface="Helvetica Neue"/>
              </a:rPr>
              <a:t>Open to the communit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Helvetica Neue"/>
              </a:rPr>
              <a:t>Step-by-step ‘wizard’ for generating data management pla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General guidance for each section: help text and resources relevant to al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Resources  for 12 NSF Directorates.  NIH Resources coming soo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1" name="Content Placeholder 2"/>
          <p:cNvSpPr/>
          <p:nvPr/>
        </p:nvSpPr>
        <p:spPr>
          <a:xfrm>
            <a:off x="285840" y="4495680"/>
            <a:ext cx="393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reate, edit, re-use,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share, save, generat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a pla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Use templat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onnect users with your institution’s resourc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2" name="Picture 2" descr=""/>
          <p:cNvPicPr/>
          <p:nvPr/>
        </p:nvPicPr>
        <p:blipFill>
          <a:blip r:embed="rId1"/>
          <a:stretch/>
        </p:blipFill>
        <p:spPr>
          <a:xfrm>
            <a:off x="4629240" y="4653000"/>
            <a:ext cx="8235720" cy="41101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sp>
        <p:nvSpPr>
          <p:cNvPr id="128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8C8-AFFE-4082-93D3-8B7C5F270E1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ghly Developed Barbaris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5" name="Picture 6" descr=""/>
          <p:cNvPicPr/>
          <p:nvPr/>
        </p:nvPicPr>
        <p:blipFill>
          <a:blip r:embed="rId1"/>
          <a:stretch/>
        </p:blipFill>
        <p:spPr>
          <a:xfrm>
            <a:off x="406440" y="2006640"/>
            <a:ext cx="11941200" cy="66038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8"/>
          <p:cNvSpPr/>
          <p:nvPr/>
        </p:nvSpPr>
        <p:spPr>
          <a:xfrm>
            <a:off x="939960" y="5715000"/>
            <a:ext cx="761976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7" name="Straight Connector 10"/>
          <p:cNvSpPr/>
          <p:nvPr/>
        </p:nvSpPr>
        <p:spPr>
          <a:xfrm>
            <a:off x="8559720" y="5715000"/>
            <a:ext cx="43434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8" name="Straight Connector 12"/>
          <p:cNvSpPr/>
          <p:nvPr/>
        </p:nvSpPr>
        <p:spPr>
          <a:xfrm flipH="1">
            <a:off x="101160" y="5715000"/>
            <a:ext cx="83844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9" name="TextBox 13"/>
          <p:cNvSpPr/>
          <p:nvPr/>
        </p:nvSpPr>
        <p:spPr>
          <a:xfrm>
            <a:off x="76320" y="7620120"/>
            <a:ext cx="128268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</a:rPr>
              <a:t>dismissed as decadents living in a state of highly developed barbarism, hoarding data     without order, hunting their own young and fighting pointless formal wars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D082-1E43-4DFA-B160-F74D0EABC4C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9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Data Management Planning Tool:  https://dmp.cdlib.org/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A6E-548A-4964-B859-D3C0AB7A57C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n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0DD-2A7F-4BFF-A866-9A6C8D2FFB6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ning for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1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1192" name="TextBox 1"/>
          <p:cNvSpPr/>
          <p:nvPr/>
        </p:nvSpPr>
        <p:spPr>
          <a:xfrm>
            <a:off x="10159920" y="7543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Life Cycl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97D-88CD-47CA-944B-D33F0B3D1A3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orkshop describes how to                                                           create a DMP and practical                                         approaches for managing                                                        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6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7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546-08C0-40A7-B178-2BD4BCFED885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ared, common data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sharing and preserv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0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1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2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A52C-410B-4D1A-B80A-B667CA206EE5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6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7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5784-FA69-4CF6-9BFC-87728E81785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spatial data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1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191-7FCD-4144-9F8F-05BFD7623AA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and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1E0-116C-40E1-8DE2-6ED197172D3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9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2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5A7-5C9F-4888-8A82-1C745366030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2-01-21T21:23:28Z</dcterms:modified>
  <cp:revision>102</cp:revision>
  <dc:subject/>
  <dc:title>ESIP Federation 101</dc:title>
</cp:coreProperties>
</file>